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6654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2C6E-3BD2-4899-AEA2-6E7B560ACF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5FFD-D2F3-4A10-B200-99B25FC71F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1268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D976-263E-4555-86A1-6C565C840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63928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-shipping. actually what do we mean by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8D50-C9AA-4271-9D9E-99C7B3B8B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A039-A165-4A6C-9241-AFEDD4FFD4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F894-4FC3-45E0-833A-9BB4765AFE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934160" y="8867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DF73-A29C-47D5-B2ED-A7E85988A7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67327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627960"/>
            <a:ext cx="9150480" cy="22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38160" y="658332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G - Sardeg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7912440" y="657864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tober 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1889280" y="6629400"/>
            <a:ext cx="6019560" cy="225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1854360" y="6581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kouter@jive.n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55840" y="1825560"/>
            <a:ext cx="753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5co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move data from somewhere to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k5 disk p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es on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FlexBuff reco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is discussion, e-Shipping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station records its session on FlexB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a are replicated to FlexBuff(s) at JIVE off-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IVE correlate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fter data release both copies can be de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62680" y="30492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e-Sh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9560" y="30312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What is needed for this, t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10200" y="1268280"/>
            <a:ext cx="849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ing on FlexB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ive5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mon C. produced scri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se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.d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ile for current m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ert commands to configure FiLa10G and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ive5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ourier New"/>
              </a:rPr>
              <a:t>insert “record = on : ...” command for FlexB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093080" y="4797360"/>
            <a:ext cx="16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Zapf Dingbats"/>
                <a:ea typeface="Zapf Dingbats"/>
              </a:rPr>
              <a:t>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9560" y="30312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What is needed for this, t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85720" y="1268280"/>
            <a:ext cx="823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 to J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ript checks for experiment fin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local copy of VEX file/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chronizes station’s data to J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lexBuff owner can set access time slots and/or data rate limit in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j~oper/.JIVE.allow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pulate correlation data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“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a for EXP_ST_SCAN availabl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7093080" y="4797360"/>
            <a:ext cx="16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Zapf Dingbats"/>
                <a:ea typeface="Zapf Dingbats"/>
              </a:rPr>
              <a:t>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19560" y="30312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What is needed for this, t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17040" y="1268280"/>
            <a:ext cx="55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or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st be able to read from FlexB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FXC demonstrated this in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7093080" y="4797360"/>
            <a:ext cx="16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Zapf Dingbats"/>
                <a:ea typeface="Zapf Dingbats"/>
              </a:rPr>
              <a:t>✔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01560" y="30312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VN seems to be in good shape to start operationalizing e-Shi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9640" y="2997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tests with On (maybe Mh) will be done in the upcoming VLBI session (session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8:02:07Z</dcterms:created>
  <dc:creator>Harro Verkouter</dc:creator>
  <dc:description/>
  <dc:language>en-US</dc:language>
  <cp:lastModifiedBy>Harro Verkouter</cp:lastModifiedBy>
  <dcterms:modified xsi:type="dcterms:W3CDTF">2014-10-05T08:39:13Z</dcterms:modified>
  <cp:revision>171</cp:revision>
  <dc:subject/>
  <dc:title>PowerPoint Presentation</dc:title>
</cp:coreProperties>
</file>